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B9F7-BA9A-45E9-8783-41DFB55B3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7432-4E58-48FB-8A4F-42239797BD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C4A2-BE9A-49DD-9561-1C8C267AE9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’s quote about the controversy over H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DA36-F975-4A92-BC65-69964D59E5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s: http://news.bbc.co.uk/olmedia/1730000/images/_1730414_sung_ap_150.jpg http://www.carnegieendowment.org/newsletters/images/2006-10-18/nkorea_nucleartest10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eativeenergy.org/images/jimmy_carte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http://www.fpif.org/briefs/vol4/v4n15nko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8A55-C8BF-41C2-940B-60E5737995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ews.bbc.co.uk/1/hi/world/asia-pacific/161513.st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bs.org/newshour/bb/asia/northkorea/images/north-korea-missile.jp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41B-C766-4D96-ABF8-309AFFA3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90C-4A85-4F37-945D-4459E172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C55-48BD-4C8F-BCCD-145D311A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41C-6854-4E48-81F7-D1FE4AB6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70B-B875-47CF-98F9-0C20CC34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CEA-D6FB-431F-9DCF-99AD7353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047-44D0-4A6C-92B2-2D0AD4EF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9B9-1D3B-442F-8792-3CFABF05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EA7-9E9A-4EAA-A296-91E8377E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D43-C293-40E7-A459-5BED9CF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894-A991-4285-ADED-D99EB02F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715-42B2-4626-9EF5-CE4C4DC8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0BC1-413E-4B32-A1EB-544C6388D1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urrent Events </a:t>
            </a:r>
            <a:br>
              <a:rPr sz="4400"/>
            </a:b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lectronic Scrapbook Projec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PowerPoint Samples</a:t>
            </a:r>
            <a:endParaRPr b="0" lang="en-US" sz="6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lide show to demonstrate to students how their final work should l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3520" y="5075280"/>
            <a:ext cx="81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b5d"/>
                </a:solidFill>
                <a:latin typeface="Comic Sans MS"/>
              </a:rPr>
              <a:t>"I have no color prejudices nor caste prejudices nor creed prejudices. All I care to know is that a man is a human being, and that is enough for me; he can't be any worse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85800" y="518148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6b5d"/>
                </a:solidFill>
                <a:latin typeface="Times New Roman"/>
              </a:rPr>
              <a:t>Pictures from www.pbs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304920" y="388800"/>
            <a:ext cx="86104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1039680"/>
            <a:ext cx="7848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_1730414_sung_ap_150"/>
          <p:cNvPicPr/>
          <p:nvPr/>
        </p:nvPicPr>
        <p:blipFill>
          <a:blip r:embed="rId1"/>
          <a:stretch/>
        </p:blipFill>
        <p:spPr>
          <a:xfrm rot="481200">
            <a:off x="5562360" y="1219320"/>
            <a:ext cx="3127320" cy="3962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1cb"/>
                </a:solidFill>
                <a:latin typeface="Times New Roman"/>
              </a:rPr>
              <a:t>Nuclear Testing</a:t>
            </a:r>
            <a:endParaRPr b="0" lang="en-US" sz="4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 rot="384000">
            <a:off x="4876560" y="5181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m Il S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jimmy_carter"/>
          <p:cNvPicPr/>
          <p:nvPr/>
        </p:nvPicPr>
        <p:blipFill>
          <a:blip r:embed="rId2"/>
          <a:stretch/>
        </p:blipFill>
        <p:spPr>
          <a:xfrm rot="597000">
            <a:off x="685800" y="914400"/>
            <a:ext cx="362916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 rot="562200">
            <a:off x="608760" y="4495320"/>
            <a:ext cx="2895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immy C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676520" y="53341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94 Jimmy Carter and Kim Il Sung negotiated the Agreed Frame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8" descr="nkorea_nucleartest100"/>
          <p:cNvPicPr/>
          <p:nvPr/>
        </p:nvPicPr>
        <p:blipFill>
          <a:blip r:embed="rId3"/>
          <a:stretch/>
        </p:blipFill>
        <p:spPr>
          <a:xfrm rot="21072600">
            <a:off x="3809520" y="19047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00906_doe"/>
          <p:cNvPicPr/>
          <p:nvPr/>
        </p:nvPicPr>
        <p:blipFill>
          <a:blip r:embed="rId1"/>
          <a:stretch/>
        </p:blipFill>
        <p:spPr>
          <a:xfrm rot="609600">
            <a:off x="4267080" y="1295280"/>
            <a:ext cx="4419720" cy="3597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895480" y="4419720"/>
            <a:ext cx="49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orth Korea Nuclear Test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9" name="Picture 5" descr="_161767_kor_missile_route300"/>
          <p:cNvPicPr/>
          <p:nvPr/>
        </p:nvPicPr>
        <p:blipFill>
          <a:blip r:embed="rId2"/>
          <a:stretch/>
        </p:blipFill>
        <p:spPr>
          <a:xfrm rot="20950800">
            <a:off x="685800" y="1371240"/>
            <a:ext cx="3238560" cy="2298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north-korea-missile"/>
          <p:cNvPicPr/>
          <p:nvPr/>
        </p:nvPicPr>
        <p:blipFill>
          <a:blip r:embed="rId3"/>
          <a:stretch/>
        </p:blipFill>
        <p:spPr>
          <a:xfrm rot="442800">
            <a:off x="2895120" y="2819160"/>
            <a:ext cx="2362320" cy="2046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28600" y="571500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pite an already shaky relationship between the two countries, the situation worsens in the early 199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80880" y="878040"/>
            <a:ext cx="830592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48:06Z</dcterms:created>
  <dc:creator>blacka</dc:creator>
  <dc:description/>
  <dc:language>en-US</dc:language>
  <cp:lastModifiedBy>Michael</cp:lastModifiedBy>
  <dcterms:modified xsi:type="dcterms:W3CDTF">2017-07-20T00:16:15Z</dcterms:modified>
  <cp:revision>6</cp:revision>
  <dc:subject/>
  <dc:title>Slide 1</dc:title>
</cp:coreProperties>
</file>